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DA158-504B-47AA-82B0-04793EBA4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BFF0-4429-4832-9AAF-68FDBB31B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FF496-9752-4AB7-A346-62E52E911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46EB-837C-4AC2-ABA7-C06EE3C75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6BEB0-71FA-4620-BE79-96C2BF1B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D5E47-2C22-4471-AF87-2BB69DB6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0A2C4-5B66-4EC3-9B87-911F7E22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46594-6B1C-4872-9295-D5D4AD9A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0E722-D744-4594-86F4-B9377F63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8D6A2-E7DD-47AD-ACF3-80B30FCF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093A1-563F-4110-AD4C-278760AD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74C6-71F6-4491-840C-4475330CE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E57A1-41F1-4D30-9766-70B56BFC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00A56-0A15-4B72-8CEE-38609F54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E48B8-6BF4-47BD-ABC0-A5BAD247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4DCFA-0ABC-4BCD-A407-F762B93D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046E4-2AA1-4114-91AA-BF76A93C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0DDD-544D-4DAF-B47D-6743776AC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7655-2D7E-4B1A-9F52-A3A506553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13B1-CFB1-4F95-9F9E-75D73C101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13BC-30AA-4E07-B133-3FCD32879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4F8E-3E13-4CE9-802B-6F19F65EF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3158-219B-41CA-ACB9-CCEA48D14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FD98-CA6C-4CEC-A64D-7882259D2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18FB-F1FF-47FD-B69B-5834A10A0B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E0C8-580D-4AFF-BFD3-D21F749668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XTCGKkpWmU" TargetMode="External"/><Relationship Id="rId2" Type="http://schemas.openxmlformats.org/officeDocument/2006/relationships/hyperlink" Target="http://www.youtube.com/watch?v=KXOkNOoVFJ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32F7-939C-48C0-9083-0267759559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4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mall Group 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yourselves with those who worked with student samples from the same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you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3563-8CAE-4EEC-BFC6-14CA36EB16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arge Group 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9903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your chart paper or spread out on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a gallery w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 the following focus questions during your gallery wal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Do you have any insights that you would like to share with the whole grou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Is this (or any part of this) like something you have used in the classroom?  Particularly in relation to misconceptions with fraction concep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31E0-87C7-4964-BE7A-2C52C87A44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en Ways to Assess Without Putting a Mark on Pap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85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en Ways to Assess Without Putting a Mark on Pap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Setting and Using Criteri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Kathleen Gregory, Caren Cameron, Anne Davies, Connections Publishing,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A4FE-A394-41D1-8254-1B77E1B82D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en Ways to Assess Without Putting a Mark on Pap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570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t, Not Yet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t, Not Yet Met, I Not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ample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formance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of, Less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20570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.B. (Pay Atten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pecific 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ing Acr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Next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ey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8E91-E75B-4651-BB70-8B8D1D894D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a minute and think about what you’ve heard, discussed, and done during the plenary and breakout session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there an idea, a comment, or a strategy, that caught your attentio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t this down on an exit card, and give it to us as you le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CDD2-AF6F-447E-B5CD-929C9263CF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an opportunity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/enhance their giving of descriptive feedback through examination of student work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en their understanding of fraction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80B5-B882-420E-8E69-86D38FE8D5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7E78-C363-4A00-9235-96ADCFF129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scriptive 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ncing With the Stars - Best Judges Mo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merican Idol - Taylor Hicks' Au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14D8-2FB7-4069-B6C2-2D594A8CB6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066680"/>
          <a:ext cx="8458200" cy="4267440"/>
        </p:xfrm>
        <a:graphic>
          <a:graphicData uri="http://schemas.openxmlformats.org/drawingml/2006/table">
            <a:tbl>
              <a:tblPr/>
              <a:tblGrid>
                <a:gridCol w="1905120"/>
                <a:gridCol w="2133720"/>
                <a:gridCol w="2133360"/>
                <a:gridCol w="228600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tivational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valuative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ptive (“tell”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ptive (“ask”)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27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to make the learner feel go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is intended to encourage and support the learn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does not give guidance on how the learner can improve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 “Good work”, “Much improved”, “Very creative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to measure student achievement with a score or grad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is intended to summarize student achiev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does not give guidance on how the learner can improve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“73%”, “Level 2”, “Needs Improvement-Satisfactory-Good-Excellent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to improve student achiev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intent of the feedback is to </a:t>
                      </a:r>
                      <a:r>
                        <a:rPr b="0" i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ll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the learner what needs to be improv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gives specific guidance as to how the learner can improve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“Your equations are correct.  Remember to use proper problem solving format.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for students to internalize the feedback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intent of the feedback is to </a:t>
                      </a:r>
                      <a:r>
                        <a:rPr b="0" i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k questions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which will prompt the learner to independently move their reasoning to the next lev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“I can see your pattern works for the 2 examples you have given.  Will it work for all values of n?  How would you prove this?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4"/>
          <p:cNvSpPr/>
          <p:nvPr/>
        </p:nvSpPr>
        <p:spPr>
          <a:xfrm>
            <a:off x="3657600" y="6172200"/>
            <a:ext cx="502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rom Portage la Prairie School Division, Manito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ww.plpsd.mb.ca/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ocus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re certain types of feedback “better” than others?  How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.  Are certain types of feedback more appropriate for certain types of tasks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EECF-0671-4288-92E5-AB47D37F32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9880" y="1371600"/>
          <a:ext cx="8040600" cy="4044960"/>
        </p:xfrm>
        <a:graphic>
          <a:graphicData uri="http://schemas.openxmlformats.org/drawingml/2006/table">
            <a:tbl>
              <a:tblPr/>
              <a:tblGrid>
                <a:gridCol w="1865520"/>
                <a:gridCol w="1866600"/>
                <a:gridCol w="218880"/>
                <a:gridCol w="1845000"/>
                <a:gridCol w="2244600"/>
              </a:tblGrid>
              <a:tr h="86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ation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ve (“tell”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ve (“ask”) Feedba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17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edback is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marily motiva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edback is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marily evalu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ve feedback primarily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ll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the student how to correct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ve feedback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k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student what to do to move their reasoning to the next lev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32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to encourage and support the lear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asure student achievement with a score or a 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 improve learning by indicating to the student what needs to be impr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 improve learning, by moving student reasoning to the next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742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m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cxnSp>
        <p:nvCxnSpPr>
          <p:cNvPr id="109" name="Straight Arrow Connector 8"/>
          <p:cNvCxnSpPr/>
          <p:nvPr/>
        </p:nvCxnSpPr>
        <p:spPr>
          <a:xfrm>
            <a:off x="2057040" y="5103360"/>
            <a:ext cx="5258520" cy="2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TextBox 4"/>
          <p:cNvSpPr/>
          <p:nvPr/>
        </p:nvSpPr>
        <p:spPr>
          <a:xfrm>
            <a:off x="3657600" y="6172200"/>
            <a:ext cx="502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rom Portage la Prairie School Division, Manito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ww.plpsd.mb.ca/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Samples – 5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n assignment, Jaime received the following sco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 A:            Section B:            Total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ie was confused, because using what she knew about fractions, she didn’t think that              .  How  would you explain this to Jai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Show what you know about        and       .  Use different representations to communicate your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Give a real life example of a problem where the solution could involve dividing by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What do you know about          ?  Use diagrams, numbers, algebra, words, etc. to communicate your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Create a sentence that makes sense that includes ALL of these words and numbers:  improper, fraction, simple, challenging, 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4EFC-E5DE-4BDB-AF1F-89E338496F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588B-0D3C-49B6-AE32-724E5FD5D9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2565360" y="1523880"/>
                <a:ext cx="177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2268360" y="3600360"/>
                <a:ext cx="1699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3743280" y="3809880"/>
                <a:ext cx="44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2610000" y="16765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0"/>
              <p:cNvSpPr txBox="1"/>
              <p:nvPr/>
            </p:nvSpPr>
            <p:spPr>
              <a:xfrm>
                <a:off x="2743200" y="2197080"/>
                <a:ext cx="698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3962520" y="2743200"/>
                <a:ext cx="3175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2"/>
              <p:cNvSpPr txBox="1"/>
              <p:nvPr/>
            </p:nvSpPr>
            <p:spPr>
              <a:xfrm>
                <a:off x="4343400" y="1523880"/>
                <a:ext cx="17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4"/>
              <p:cNvSpPr txBox="1"/>
              <p:nvPr/>
            </p:nvSpPr>
            <p:spPr>
              <a:xfrm>
                <a:off x="5707080" y="1523880"/>
                <a:ext cx="236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5"/>
              <p:cNvSpPr txBox="1"/>
              <p:nvPr/>
            </p:nvSpPr>
            <p:spPr>
              <a:xfrm>
                <a:off x="4876920" y="2751120"/>
                <a:ext cx="3045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riting Descriptive 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one of the 5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1, 2, or 3 samples of student work for that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k with a partner to analyze the student thinking and write descriptive feedback using a 4-colour strate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BEE2-6CE9-4EBA-8DCA-81F2A78FA0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4-Colour Strateg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t and paste the sample in the middle of a piece of chart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4 different colours of mark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the following around the s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the student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know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knowledge/understanding seems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fragil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you might ask the student to expose or evoke think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a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escriptive feedback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ent might look like on the student work based on the above think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D2D6-4C31-4F20-9326-DE2F7553D2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25T18:51:59Z</dcterms:modified>
  <cp:revision>28</cp:revision>
  <dc:subject/>
  <dc:title>&lt;Title&gt;</dc:title>
</cp:coreProperties>
</file>